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9.jpeg" ContentType="image/jpeg"/>
  <Override PartName="/ppt/media/%E7%AB%A5%E5%B9%B4.wav" ContentType="audio/x-wav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A15-6331-425C-BE78-82F9C906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9DC-C8F7-468B-8CA7-636091B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DCC-DBFC-4210-A88E-986F9BA4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642-D333-4A94-95DD-39373D0B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E97-87BC-4CF6-91BA-1114003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1DB-E23F-4619-9440-E3AF73F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95E-55B2-4B59-BA9F-6DDC90D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E69-A53F-42D9-84AA-8006F02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D11-0ECC-44A0-835A-24E5D92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7E3-7D5F-46BC-9B23-C94BBE1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006-691F-4D0A-9FDA-6CA1CA3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A50-15FF-4769-B9A6-9E93EB3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7C1-C93E-481B-8A44-F0422884FEE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1461;&#24180;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Arial"/>
              </a:rPr>
              <a:t>我 們 這 個 時 代 的 悖 論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Paradox of Our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trips dir="ru"/>
    <p:sndAc>
      <p:stSnd>
        <p:snd r:embed="rId2" name="%E7%AB%A5%E5%B9%B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bbe0e3"/>
                </a:solidFill>
                <a:latin typeface="Arial"/>
              </a:rPr>
              <a:t>我們不斷聚斂財富，卻逐漸丟失了自我價值。</a:t>
            </a:r>
            <a:br>
              <a:rPr sz="1600"/>
            </a:br>
            <a:r>
              <a:rPr b="0" lang="zh-TW" sz="2000" spc="-1" strike="noStrike">
                <a:solidFill>
                  <a:srgbClr val="bbe0e3"/>
                </a:solidFill>
                <a:latin typeface="Candara"/>
              </a:rPr>
              <a:t>We have multiplied our possessions, but reduced our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33"/>
                </a:solidFill>
                <a:latin typeface="Arial"/>
              </a:rPr>
              <a:t>我們的話語太多，真愛太少，謊言氾濫。</a:t>
            </a:r>
            <a:r>
              <a:rPr b="0" lang="zh-TW" sz="1600" spc="-1" strike="noStrike">
                <a:solidFill>
                  <a:srgbClr val="ff9933"/>
                </a:solidFill>
                <a:latin typeface="Arial"/>
              </a:rPr>
              <a:t> </a:t>
            </a:r>
            <a:br>
              <a:rPr sz="1600"/>
            </a:br>
            <a:r>
              <a:rPr b="0" lang="zh-TW" sz="2000" spc="-1" strike="noStrike">
                <a:solidFill>
                  <a:srgbClr val="ff9933"/>
                </a:solidFill>
                <a:latin typeface="Candara"/>
              </a:rPr>
              <a:t>We talk too much, love too little and lie too of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99"/>
                </a:solidFill>
                <a:latin typeface="Arial"/>
              </a:rPr>
              <a:t>我們掌握了謀生手段，卻不懂得生活真諦；</a:t>
            </a:r>
            <a:br>
              <a:rPr sz="1800"/>
            </a:br>
            <a:r>
              <a:rPr b="0" lang="zh-TW" sz="2000" spc="-1" strike="noStrike">
                <a:solidFill>
                  <a:srgbClr val="ffcc99"/>
                </a:solidFill>
                <a:latin typeface="Candara"/>
              </a:rPr>
              <a:t>We've learned how to make a living, but not a lif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99ff"/>
                </a:solidFill>
                <a:latin typeface="Arial"/>
              </a:rPr>
              <a:t>我們讓年華付諸流水，卻不曾將生命傾注其中。</a:t>
            </a:r>
            <a:br>
              <a:rPr sz="1800"/>
            </a:br>
            <a:r>
              <a:rPr b="0" lang="zh-TW" sz="2000" spc="-1" strike="noStrike">
                <a:solidFill>
                  <a:srgbClr val="cc99ff"/>
                </a:solidFill>
                <a:latin typeface="Candara"/>
              </a:rPr>
              <a:t>We've added years to life, not life to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23000" cy="571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ccff"/>
                </a:solidFill>
                <a:latin typeface="Arial"/>
              </a:rPr>
              <a:t>我們的住房越來越高，脾氣卻越來越糟；</a:t>
            </a:r>
            <a:br>
              <a:rPr sz="1800"/>
            </a:br>
            <a:r>
              <a:rPr b="0" lang="zh-TW" sz="2000" spc="-1" strike="noStrike">
                <a:solidFill>
                  <a:srgbClr val="ccccff"/>
                </a:solidFill>
                <a:latin typeface="Candara"/>
              </a:rPr>
              <a:t>We have taller buildings, but shorter tem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ff99"/>
                </a:solidFill>
                <a:latin typeface="Arial"/>
              </a:rPr>
              <a:t>我們的道路越來越寬闊，眼光卻越來越狹隘。</a:t>
            </a:r>
            <a:r>
              <a:rPr b="0" lang="zh-TW" sz="1600" spc="-1" strike="noStrike">
                <a:solidFill>
                  <a:srgbClr val="66ff99"/>
                </a:solidFill>
                <a:latin typeface="Arial"/>
              </a:rPr>
              <a:t> </a:t>
            </a:r>
            <a:br>
              <a:rPr sz="1600"/>
            </a:br>
            <a:r>
              <a:rPr b="0" lang="zh-TW" sz="2000" spc="-1" strike="noStrike">
                <a:solidFill>
                  <a:srgbClr val="66ff99"/>
                </a:solidFill>
                <a:latin typeface="Candara"/>
              </a:rPr>
              <a:t>Wider freeways, but narrower view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我們付出很多，可獲得的很少；我們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購辦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了很多，可未有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物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盡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其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用 。</a:t>
            </a:r>
            <a:br>
              <a:rPr sz="1800"/>
            </a:br>
            <a:r>
              <a:rPr b="0" lang="zh-TW" sz="2000" spc="-1" strike="noStrike">
                <a:solidFill>
                  <a:srgbClr val="ffcc00"/>
                </a:solidFill>
                <a:latin typeface="Candara"/>
              </a:rPr>
              <a:t>We spend more, but have less; we buy more, but enjoy it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4824360"/>
            <a:ext cx="2746440" cy="8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00"/>
                </a:solidFill>
                <a:latin typeface="Arial"/>
              </a:rPr>
              <a:t>我們能夠往返於地球與月球之間，卻不樂意穿過馬路向新鄰居問好。</a:t>
            </a:r>
            <a:r>
              <a:rPr b="0" lang="zh-TW" sz="1800" spc="-1" strike="noStrike">
                <a:solidFill>
                  <a:srgbClr val="00ff00"/>
                </a:solidFill>
                <a:latin typeface="Arial"/>
              </a:rPr>
              <a:t> </a:t>
            </a:r>
            <a:br>
              <a:rPr sz="18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We've been all the way to the moon and back, </a:t>
            </a:r>
            <a:br>
              <a:rPr sz="20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but have trouble crossing the street to meet the new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ffff"/>
                </a:solidFill>
                <a:latin typeface="Arial"/>
              </a:rPr>
              <a:t>我們可以征服外太空，卻懾於走進內心世界。</a:t>
            </a:r>
            <a:br>
              <a:rPr sz="1800"/>
            </a:br>
            <a:r>
              <a:rPr b="0" lang="zh-TW" sz="2000" spc="-1" strike="noStrike">
                <a:solidFill>
                  <a:srgbClr val="66ffff"/>
                </a:solidFill>
                <a:latin typeface="Candara"/>
              </a:rPr>
              <a:t>We've conquered outer space, but not inner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33"/>
                </a:solidFill>
                <a:latin typeface="Arial"/>
              </a:rPr>
              <a:t>我們可以擊碎原子，卻不能突破思想偏見；</a:t>
            </a:r>
            <a:br>
              <a:rPr sz="1800"/>
            </a:br>
            <a:r>
              <a:rPr b="0" lang="zh-TW" sz="2000" spc="-1" strike="noStrike">
                <a:solidFill>
                  <a:srgbClr val="ff9933"/>
                </a:solidFill>
                <a:latin typeface="Candara"/>
              </a:rPr>
              <a:t>We've split the atom, but not our prejud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23000" cy="571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我們居住的房屋越來越寬敞，家庭卻越</a:t>
            </a:r>
            <a:r>
              <a:rPr b="1" lang="zh-TW" sz="1800" spc="-1" strike="noStrike">
                <a:solidFill>
                  <a:srgbClr val="ffccff"/>
                </a:solidFill>
                <a:latin typeface="Arial"/>
              </a:rPr>
              <a:t>趨</a:t>
            </a: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小型化</a:t>
            </a:r>
            <a:r>
              <a:rPr b="1" lang="zh-TW" sz="1800" spc="-1" strike="noStrike">
                <a:solidFill>
                  <a:srgbClr val="ffccff"/>
                </a:solidFill>
                <a:latin typeface="Arial"/>
              </a:rPr>
              <a:t>。</a:t>
            </a: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 </a:t>
            </a:r>
            <a:br>
              <a:rPr sz="1800"/>
            </a:br>
            <a:r>
              <a:rPr b="0" lang="zh-TW" sz="2000" spc="-1" strike="noStrike">
                <a:solidFill>
                  <a:srgbClr val="ffccff"/>
                </a:solidFill>
                <a:latin typeface="Candara"/>
              </a:rPr>
              <a:t>Today, we have bigger houses and smaller famil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Arial"/>
              </a:rPr>
              <a:t>我們寫得很多，可學到的很少；計畫多多，可完成的很少。</a:t>
            </a:r>
            <a:br>
              <a:rPr sz="1800"/>
            </a:br>
            <a:r>
              <a:rPr b="0" lang="zh-TW" sz="2000" spc="-1" strike="noStrike">
                <a:solidFill>
                  <a:srgbClr val="ffff00"/>
                </a:solidFill>
                <a:latin typeface="Candara"/>
              </a:rPr>
              <a:t>We write more, but learn less; plan more, but accomplish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7535880" cy="576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我們懂得追趕時間，卻沒學會耐心等待；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We've learned to rush, but not to wa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7558200" cy="581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cc"/>
                </a:solidFill>
                <a:latin typeface="Arial"/>
              </a:rPr>
              <a:t>我們的收入越來越高，道德品格卻越見低俗。</a:t>
            </a:r>
            <a:br>
              <a:rPr sz="1800"/>
            </a:br>
            <a:r>
              <a:rPr b="0" lang="zh-TW" sz="2000" spc="-1" strike="noStrike">
                <a:solidFill>
                  <a:srgbClr val="ff99cc"/>
                </a:solidFill>
                <a:latin typeface="Candara"/>
              </a:rPr>
              <a:t>We have higher incomes, but lower mo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7496280" cy="5622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我們用很多電腦儲存大量訊息，複製無數資訊，但人與人間相互交流溝通卻稀疏。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We build more computers to hold more information, to produce more copies, </a:t>
            </a:r>
            <a:br>
              <a:rPr sz="20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but have less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1480" cy="5641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cc"/>
                </a:solidFill>
                <a:latin typeface="Arial"/>
              </a:rPr>
              <a:t>我們擁有的是數量，缺乏的是質量。</a:t>
            </a:r>
            <a:br>
              <a:rPr sz="1800"/>
            </a:br>
            <a:r>
              <a:rPr b="0" lang="zh-TW" sz="2000" spc="-1" strike="noStrike">
                <a:solidFill>
                  <a:srgbClr val="ff33cc"/>
                </a:solidFill>
                <a:latin typeface="Candara"/>
              </a:rPr>
              <a:t>We are long on quantity, but short on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7040" cy="5661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ff00"/>
                </a:solidFill>
                <a:latin typeface="Arial"/>
              </a:rPr>
              <a:t>這是吃快餐卻消化遲鈍的時代；身軀高大但性格侏儒的時代；名利高踞而人情淺薄的時代。</a:t>
            </a:r>
            <a:br>
              <a:rPr sz="1600"/>
            </a:br>
            <a:r>
              <a:rPr b="0" lang="zh-TW" sz="1800" spc="-1" strike="noStrike">
                <a:solidFill>
                  <a:srgbClr val="00ff00"/>
                </a:solidFill>
                <a:latin typeface="Candara"/>
              </a:rPr>
              <a:t>These are the times of fast foods and slow digestion; tall men and short character; </a:t>
            </a:r>
            <a:br>
              <a:rPr sz="1800"/>
            </a:br>
            <a:r>
              <a:rPr b="0" lang="zh-TW" sz="1800" spc="-1" strike="noStrike">
                <a:solidFill>
                  <a:srgbClr val="00ff00"/>
                </a:solidFill>
                <a:latin typeface="Candara"/>
              </a:rPr>
              <a:t>steep profits and shallow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19840" cy="568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我們的閒暇多了，樂趣卻少了；食品種類多了，營養卻少了；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More leisure and less fun; More kinds of food, but less nutri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9440" cy="563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99ff"/>
                </a:solidFill>
                <a:latin typeface="Arial"/>
              </a:rPr>
              <a:t>雙職家庭多了，廝守終生的少了；居處裝修華麗了，家庭卻破碎了。</a:t>
            </a:r>
            <a:br>
              <a:rPr sz="1800"/>
            </a:br>
            <a:r>
              <a:rPr b="0" lang="zh-TW" sz="2000" spc="-1" strike="noStrike">
                <a:solidFill>
                  <a:srgbClr val="cc99ff"/>
                </a:solidFill>
                <a:latin typeface="Candara"/>
              </a:rPr>
              <a:t>Two incomes, but more divorce; Fancier houses, but broken h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09040" cy="5713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標楷體"/>
                <a:ea typeface="標楷體"/>
              </a:rPr>
              <a:t>這就是我們今天身處充滿悖論的時代。</a:t>
            </a:r>
            <a:br>
              <a:rPr sz="2000"/>
            </a:br>
            <a:r>
              <a:rPr b="0" lang="zh-TW" sz="2400" spc="-1" strike="noStrike">
                <a:solidFill>
                  <a:srgbClr val="ff5050"/>
                </a:solidFill>
                <a:latin typeface="Candara"/>
              </a:rPr>
              <a:t>This is the paradox of our times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7569360" cy="570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因此我奉勸大家，在當今這個時代，不必為某個特別時刻保留什麼，</a:t>
            </a:r>
            <a:br>
              <a:rPr sz="1800"/>
            </a:b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因為我們生活的每一天都是特別時刻。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That's why I propose, that as of today, you do not keep anything for a special occasion, because every day that you live is a special occa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66"/>
                </a:solidFill>
                <a:latin typeface="Arial"/>
              </a:rPr>
              <a:t>可以享受的生活便利日益增多，屬於自己的時間卻日漸減少。</a:t>
            </a:r>
            <a:r>
              <a:rPr b="0" lang="zh-TW" sz="1800" spc="-1" strike="noStrike">
                <a:solidFill>
                  <a:srgbClr val="ffcc66"/>
                </a:solidFill>
                <a:latin typeface="Arial"/>
              </a:rPr>
              <a:t>  </a:t>
            </a:r>
            <a:br>
              <a:rPr sz="1800"/>
            </a:br>
            <a:r>
              <a:rPr b="0" lang="zh-TW" sz="2000" spc="-1" strike="noStrike">
                <a:solidFill>
                  <a:srgbClr val="ffcc66"/>
                </a:solidFill>
                <a:latin typeface="Candara"/>
              </a:rPr>
              <a:t>More conveniences, but less 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5683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Arial"/>
              </a:rPr>
              <a:t>探索知識，遨遊書海，坐在門廊前欣賞眼前的景色，把所有煩惱拋諸腦後。 </a:t>
            </a:r>
            <a:br>
              <a:rPr sz="18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Search for knowledge, read more, sit on your front porch and </a:t>
            </a:r>
            <a:br>
              <a:rPr sz="20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admire the view without paying attention to your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9080" y="-387360"/>
            <a:ext cx="7618320" cy="581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00"/>
                </a:solidFill>
                <a:latin typeface="Arial"/>
              </a:rPr>
              <a:t>留出更多時間與家人朋友一起，吃愛吃的東西，去你愛去的地方。</a:t>
            </a:r>
            <a:br>
              <a:rPr sz="18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Spend more time with your family and friends, eat your favorite foods, </a:t>
            </a:r>
            <a:br>
              <a:rPr sz="20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and visit the places you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39120" cy="568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生命是由快樂時光組成的鏈條，而不僅僅是為了活着。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Life is a chain of moment of enjoyment, not only about survi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61440" cy="5991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舉起你那水晶酒杯開懷暢飲吧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!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不要吝惜你最好的香水，只要想用就盡情地用吧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!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Use your crystal goblets. </a:t>
            </a:r>
            <a:br>
              <a:rPr sz="20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Do not save your best perfume, and use it every time you feel you wa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7956720" cy="6114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ff"/>
                </a:solidFill>
                <a:latin typeface="Arial"/>
              </a:rPr>
              <a:t>將「今後某一天」這類的話語從你的詞彙中刪除，</a:t>
            </a:r>
            <a:br>
              <a:rPr sz="1800"/>
            </a:br>
            <a:r>
              <a:rPr b="1" lang="zh-TW" sz="1800" spc="-1" strike="noStrike">
                <a:solidFill>
                  <a:srgbClr val="00ffff"/>
                </a:solidFill>
                <a:latin typeface="Arial"/>
              </a:rPr>
              <a:t>當下就把你想在「今後某一天」寫的信件寫了寄出。</a:t>
            </a:r>
            <a:br>
              <a:rPr sz="1800"/>
            </a:b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 </a:t>
            </a: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Remove from your vocabulary phrases like "one of these days" and "someday".  </a:t>
            </a:r>
            <a:br>
              <a:rPr sz="2000"/>
            </a:b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Let's write that letter we thought of writing "one of these day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4600" cy="5626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6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cc"/>
                </a:solidFill>
                <a:latin typeface="Arial"/>
              </a:rPr>
              <a:t>不要把對家人和朋友的愛深藏心中，大膽地告訴他們。</a:t>
            </a:r>
            <a:br>
              <a:rPr sz="1800"/>
            </a:br>
            <a:r>
              <a:rPr b="0" lang="zh-TW" sz="2000" spc="-1" strike="noStrike">
                <a:solidFill>
                  <a:srgbClr val="ff33cc"/>
                </a:solidFill>
                <a:latin typeface="Candara"/>
              </a:rPr>
              <a:t>Let's tell our families and friends how much we lo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78720" cy="5711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Arial"/>
              </a:rPr>
              <a:t>對於能給你的生命增添快樂的事情，不要押後拖延。</a:t>
            </a:r>
            <a:br>
              <a:rPr sz="18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Do not delay anything that adds laughter and joy to your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697000"/>
            <a:ext cx="91440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99"/>
                </a:solidFill>
                <a:latin typeface="新細明體"/>
              </a:rPr>
              <a:t>每一天，每一小時，每一分鐘都是特別的。你怎麼知道這不會是你的最後一刻</a:t>
            </a:r>
            <a:r>
              <a:rPr b="1" lang="zh-TW" sz="1800" spc="-1" strike="noStrike">
                <a:solidFill>
                  <a:srgbClr val="ff6699"/>
                </a:solidFill>
                <a:latin typeface="新細明體"/>
              </a:rPr>
              <a:t>?</a:t>
            </a:r>
            <a:br>
              <a:rPr sz="1800"/>
            </a:br>
            <a:r>
              <a:rPr b="0" lang="zh-TW" sz="2000" spc="-1" strike="noStrike">
                <a:solidFill>
                  <a:srgbClr val="ff6699"/>
                </a:solidFill>
                <a:latin typeface="Candara"/>
              </a:rPr>
              <a:t>Every day, every hour, and every minute is special.  </a:t>
            </a:r>
            <a:br>
              <a:rPr sz="2000"/>
            </a:br>
            <a:r>
              <a:rPr b="0" lang="zh-TW" sz="2000" spc="-1" strike="noStrike">
                <a:solidFill>
                  <a:srgbClr val="ff6699"/>
                </a:solidFill>
                <a:latin typeface="Candara"/>
              </a:rPr>
              <a:t>And you don't know if it will be your l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38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8640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如果你因為太忙而無暇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將這段文字傳達給你所愛的人，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總以為“今後的某一天”會有時間發出，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那麼想想吧 … 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“今後的某一天”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你可能沒機會再發這封信了。</a:t>
            </a:r>
            <a:br>
              <a:rPr sz="2800"/>
            </a:br>
            <a:br>
              <a:rPr sz="28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If you’re too busy to take the time to send this message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to someone you care,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and you tell yourself you will send it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 “one of these days“, 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just think …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 “one of these days“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you may not be here to sen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25080" cy="724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2360" y="5300640"/>
            <a:ext cx="4176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謝 謝 瀏 覽</a:t>
            </a:r>
            <a:br>
              <a:rPr sz="2800"/>
            </a:br>
            <a:r>
              <a:rPr b="0" lang="zh-TW" sz="2400" spc="-1" strike="noStrike">
                <a:solidFill>
                  <a:srgbClr val="ffff00"/>
                </a:solidFill>
                <a:latin typeface="Candara"/>
              </a:rPr>
              <a:t>Thank you for watching</a:t>
            </a:r>
            <a:br>
              <a:rPr sz="2800"/>
            </a:br>
            <a:r>
              <a:rPr b="0" lang="zh-TW" sz="1400" spc="-1" strike="noStrike">
                <a:solidFill>
                  <a:srgbClr val="ffff00"/>
                </a:solidFill>
                <a:latin typeface="Candara"/>
              </a:rPr>
              <a:t>Edition 2010-10-31 by Herbert K. L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我們獲得了一張又一張學位證書，卻愈加茫然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於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常識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之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中； </a:t>
            </a:r>
            <a:br>
              <a:rPr sz="1800"/>
            </a:br>
            <a:r>
              <a:rPr b="0" lang="zh-TW" sz="2000" spc="-1" strike="noStrike">
                <a:solidFill>
                  <a:srgbClr val="ccff33"/>
                </a:solidFill>
                <a:latin typeface="Candara"/>
              </a:rPr>
              <a:t>We have more degrees, but less common sen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知識增多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了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，判斷力卻低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了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。</a:t>
            </a:r>
            <a:br>
              <a:rPr sz="1800"/>
            </a:br>
            <a:r>
              <a:rPr b="0" lang="zh-TW" sz="2000" spc="-1" strike="noStrike">
                <a:solidFill>
                  <a:srgbClr val="ccff33"/>
                </a:solidFill>
                <a:latin typeface="Candara"/>
              </a:rPr>
              <a:t>More knowledge, but less jud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ff"/>
                </a:solidFill>
                <a:latin typeface="新細明體"/>
              </a:rPr>
              <a:t>專家越來越多，問題卻也日漸增加；藥物越吃越多，健康卻每況愈下。 </a:t>
            </a:r>
            <a:br>
              <a:rPr sz="1800"/>
            </a:br>
            <a:r>
              <a:rPr b="0" lang="zh-TW" sz="2000" spc="-1" strike="noStrike">
                <a:solidFill>
                  <a:srgbClr val="ff99ff"/>
                </a:solidFill>
                <a:latin typeface="Candara"/>
              </a:rPr>
              <a:t>We have more experts, but more problems; more medicine, but less we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ff"/>
                </a:solidFill>
                <a:latin typeface="Arial"/>
              </a:rPr>
              <a:t>我們花錢太瘋，笑容太少，開車太快，</a:t>
            </a:r>
            <a:br>
              <a:rPr sz="1600"/>
            </a:br>
            <a:r>
              <a:rPr b="0" lang="zh-TW" sz="2000" spc="-1" strike="noStrike">
                <a:solidFill>
                  <a:srgbClr val="ff99ff"/>
                </a:solidFill>
                <a:latin typeface="Candara"/>
              </a:rPr>
              <a:t>We spend too recklessly, laugh too little, drive too fa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ffcc"/>
                </a:solidFill>
                <a:latin typeface="Arial"/>
              </a:rPr>
              <a:t>怒氣太盛，熬夜太晚，起身太累，</a:t>
            </a:r>
            <a:br>
              <a:rPr sz="1800"/>
            </a:br>
            <a:r>
              <a:rPr b="0" lang="zh-TW" sz="2000" spc="-1" strike="noStrike">
                <a:solidFill>
                  <a:srgbClr val="99ffcc"/>
                </a:solidFill>
                <a:latin typeface="Candara"/>
              </a:rPr>
              <a:t>get to angry too quickly, stay up too late, get up too tir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Arial"/>
              </a:rPr>
              <a:t>書讀得少，電視看得勤，卻難得禱告。</a:t>
            </a:r>
            <a:br>
              <a:rPr sz="1800"/>
            </a:br>
            <a:r>
              <a:rPr b="0" lang="zh-TW" sz="2000" spc="-1" strike="noStrike">
                <a:solidFill>
                  <a:srgbClr val="ffff00"/>
                </a:solidFill>
                <a:latin typeface="Candara"/>
              </a:rPr>
              <a:t>Read too little, watch TV too often, and pray too sel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5:00:31Z</dcterms:created>
  <dc:creator/>
  <dc:description/>
  <dc:language>en-US</dc:language>
  <cp:lastModifiedBy/>
  <dcterms:modified xsi:type="dcterms:W3CDTF">2010-12-13T17:10:09Z</dcterms:modified>
  <cp:revision>9</cp:revision>
  <dc:subject/>
  <dc:title> </dc:title>
</cp:coreProperties>
</file>